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82E-0413-470A-9530-4D8BA5439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DD6-6C39-4AFE-812D-7A418BC22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1D59-65F2-45F3-8D10-CA6F38E404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2AAD-E102-48E3-8F4C-DB36D07675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C8FB-A511-462B-9C26-25A80CDF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53D8-2240-4ECC-9B31-8B12506239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24AD-61D4-4F07-A4AC-2E4B2C96DB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5D27-3AE2-4DC4-BFBA-EE1A5458AD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3309-7757-4B69-A26B-E633918911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E14F-04AC-48D1-830B-34D5EC1631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6EFB-36AE-45BD-8B34-37AAA45D46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BCD-6EBA-4F01-9BBD-A7E407E0BA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199E-AB8B-40BC-B4D1-1D16536A84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B298-993A-44DE-9D95-57A9AF9981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F86-0078-4E82-8714-9CC6B7EDE7A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99680" y="2500200"/>
            <a:ext cx="83581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IM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-ecologica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nsification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wi through action research with smallhold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2071440"/>
            <a:ext cx="79293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gis Chikowo, Robby Richardson &amp; Sieg Snapp -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M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zi Mhango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 LUANAR Agr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anny Chigwa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 –LUANR Animal Science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gness Mangwela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LUANAR Nutrition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aac Nyoka &amp;  Aston Mulwafu &amp; Sileshi W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IC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ta Lulseged &amp; Rowland Chirwa–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C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wen Kumwenda &amp; Anilly Msukwa –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DA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W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.. and graduate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214200" y="192888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biophysical and socio-economic constraints to increased quality, quantity and diversity of crop and livestock products, especially for women farmers? (R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ffective are the different technological options under different biophysical and socioeconomic conditions in enhancing food security, nutrition and ecosystem stability? (R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214200" y="192888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eterminants of farmer participation in field-based learning platforms and subsequent influence on their use of soil fertility and livestock production intensification technologies? (RO2/R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ood processing and utilization technology options that could be suitable for adoption by the targeted households to improve human nutrition? (RO2 and R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ork pack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214200" y="207180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0: Project coord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SU+I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1: Participatory action research and on-farm experimen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U + LUANAR+ CI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2: Integration of climbing be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CIAT+MSU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3 Livestock intensif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LUANAR and ICRA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4: Nutritional status improvement and diversification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LUANAR Human Nutrition Department and DAES Nutrition Department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5 Dissemination, impact and networ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MSU + IFPRI+ DA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2580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eld surv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articipatory on-farm experi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flection worksho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ystems mod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ethodolo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liverables (outputs - outcomes-impac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214200" y="207180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and decision making capacity of women in technology development, evaluation and application incr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il degradation reduced and soil fertility improv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for development platforms strengthened and functional at district level (to drive the sustainable intensification agen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ecurity, nutrition, and ecosystem stability in smallholder farming systems enhanc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dicator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gt;900 farmers using SI technologies, crop yields increase by &gt;15%,  milk yields increase by 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28800" y="31428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Regis</cp:lastModifiedBy>
  <cp:lastPrinted>2011-10-06T11:45:23Z</cp:lastPrinted>
  <dcterms:modified xsi:type="dcterms:W3CDTF">2013-09-05T12:57:58Z</dcterms:modified>
  <cp:revision>81</cp:revision>
  <dc:subject/>
  <dc:title>Slide 1</dc:title>
</cp:coreProperties>
</file>